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AAB-F02C-4BCF-9AC7-8A45C6D1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FFE-E136-42F7-99AB-7540201C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A61-5AE9-4985-81E5-A3126CF5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CA9-55C0-460E-ABD8-1C753B44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7E1-27E7-4D7C-9F13-C0DF72A1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A16BD-E39A-40B7-8097-0A702E77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3CB40-7199-4DFD-BAE9-C85B58BB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88F4F-0C26-4761-B5C2-62C31348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6A7FD-3BE9-4132-BE9E-172937A8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74596-A66B-473D-98A1-38265436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42F-6B7B-4B4D-8E72-C9AE06DA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6E8F8-E0BD-4C3F-A32D-5128B663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713C6-164C-446A-98DD-E85506E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B2C28-48B5-427F-BC60-8CF57701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1BDDE-1456-4900-949E-AD36CED7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4A517-EA35-430C-8EAB-5D86E36C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0003D-1C01-4FF4-B192-4B4840C2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5F0E1-0E0D-4645-A868-7BADE75D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135-BE9A-45B2-AE3B-051C7814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953-1A20-4F31-A132-81147A59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B72-13DB-4C0E-82FE-86E3BF3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0B2-1526-4EAA-84A2-4677F3D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106-F1ED-4EAE-B22E-E2E2BD3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667-CE41-42F7-A28F-0061995B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D7BCB-34EF-49D1-A6A0-64495C32C27A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F402-A35E-484B-8676-C84BDF2B4B9C}" type="slidenum">
              <a:rPr b="0" lang="en-US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3D785-099F-4752-A946-566C55F51102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9273E-8608-4C36-9452-91117B714FDB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F73B8-9829-47E0-9F85-CFDD9F471C93}" type="slidenum">
              <a:rPr b="0" lang="en-US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D762F-4FD4-4AB4-B25A-C5E19BC2626F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9F961-8C9E-468C-9F33-2B474D6DDCA0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5088A-E0E4-40DE-A5B1-C7FA7A376F12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e - La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82284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292680" rIns="274320" tIns="91440" bIns="9144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ellular Respira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1752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9.  In which direction does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water level move in the tube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during this experimant?  Explain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oward the pea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As the volume of gas goes down (oxygen is consumed and the carbon dioxide produced is turned into a solid) the pressure also drop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3960" cy="160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0.  Why should you keep your hand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  out of the water during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  course of the expermen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o prevent outside influences on data.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nds in the water may cause temperature change/ bumping the respirometer may allow water to re-enter the pipette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15811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.  What effect do changes i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emperature have on the volum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of a ga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volume of the gas changes in direct proportion to the temperature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An increase in temperature = An increase in volume &amp; vice versa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2.  Which of the 3 vials will serve as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control?  Why is that necessar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ial with beads only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s vial enables us to correct for changes in gas volume that are due to changes in temperature or barometric pressure rather than consumption of oxygen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3960" cy="1981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3.  Do you expect germinating seed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o consume a different amount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oxygen when compared to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dry seeds?  Explain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Ye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Respiration rates are slower in dry, dormant seeds.  The rate of respiration increases during germination because the seeds need more energy for growth &amp; development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.  What is the purpose of the KOH i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his experimen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o remove the carbon dioxide produced by the peas during germination by converting it to a solid precipitate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s means that changes in the volume of gas in the respirometer will be directly related to the amount of oxygen consumed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5.  What is the independent variab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 in this experimen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type of pea used – germinating vs. non-germinating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6.  What is the dependent variable i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his experimen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volume of oxygen gas consumed by the pea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13960" cy="2214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7.  What are we trying to show wh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comparing respirometers on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right side of the room compar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o the left  side of the room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14560" y="2971800"/>
            <a:ext cx="76104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at change in temperature is directly proportional to the volume of ga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8.  What gas is being consumed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he pea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Oxygen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18:38Z</dcterms:created>
  <dc:creator>Keith or Sherri Holmgren</dc:creator>
  <dc:description/>
  <dc:language>en-US</dc:language>
  <cp:lastModifiedBy>NHS NPS</cp:lastModifiedBy>
  <dcterms:modified xsi:type="dcterms:W3CDTF">2011-11-14T12:35:29Z</dcterms:modified>
  <cp:revision>3</cp:revision>
  <dc:subject/>
  <dc:title>Pre - Lab</dc:title>
</cp:coreProperties>
</file>